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F85-8CC6-491D-8471-E7036E6B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997-BB39-4B7F-8D6F-C9370C0F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8A9-E5AD-4AC0-98DF-CCBD893F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3E6-F7F4-4D86-A67D-44970B51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CE0-AFBB-4172-BDD4-71D6D901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6B3-7C82-49EF-BCC2-FFF8385F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86C-67DE-43C9-B1C7-0DF6823A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BE3-5586-49DD-869E-71B8C1DD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2AE-CD52-48B5-937D-EBAE874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91B-8A17-4DB3-A05A-3C977510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875-637B-4F3C-8CE0-1231A386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AB8-80BA-4515-BA2E-16DD64C5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E99C-DBB2-47F2-B1A8-C9043D7DE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221000"/>
            <a:ext cx="1150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72428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mpe 4HK 50-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h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900000" y="2205000"/>
            <a:ext cx="0" cy="2016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205000"/>
            <a:ext cx="935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7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2205000"/>
            <a:ext cx="0" cy="1008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3213000"/>
            <a:ext cx="14414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3213000"/>
            <a:ext cx="865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35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284720" y="2708280"/>
            <a:ext cx="1008000" cy="504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28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233800">
            <a:off x="406728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4292640"/>
            <a:ext cx="22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b 90° angle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b 45° angle 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 clapet anti re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2708280"/>
            <a:ext cx="122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516720" y="2421000"/>
            <a:ext cx="287280" cy="287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2421000"/>
            <a:ext cx="1584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31640" y="299736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76720" y="299736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3573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13716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roché à la même altimé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198900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20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4:27:56Z</dcterms:created>
  <dc:creator>stéphane lucas</dc:creator>
  <dc:description/>
  <dc:language>en-US</dc:language>
  <cp:lastModifiedBy>stephlu</cp:lastModifiedBy>
  <dcterms:modified xsi:type="dcterms:W3CDTF">2008-03-03T11:44:02Z</dcterms:modified>
  <cp:revision>4</cp:revision>
  <dc:subject/>
  <dc:title>Slide 1</dc:title>
</cp:coreProperties>
</file>